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642-2B28-484D-B40D-2500C1F2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46F-8366-4F87-BD0B-62D66055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6B9-F4EA-445F-8547-64A6DEDE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3DA-8006-43DD-BEE0-A8967C97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1F6-FC61-4F9E-9879-7AF59BD8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561-7663-4690-91E6-976CC05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D09-9077-4771-A3BC-D25523CF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B5B-2E4E-4B22-BE3D-B7981A90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3E6-89BF-4276-A0A4-21422414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796-C559-42DA-BF9C-546ADEA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269-9457-43D6-9D04-42433D2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631-CD59-49D1-836A-506A166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FD26-7A35-4101-9125-41DE9D7D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4000"/>
            <a:ext cx="4275000" cy="93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876920" cy="74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9480" y="125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70866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229600" cy="3009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2133720"/>
            <a:ext cx="2133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03280"/>
            <a:ext cx="8763120" cy="109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838080"/>
            <a:ext cx="1752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762280" cy="52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7696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458200" cy="1414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685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41880" cy="647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71800" y="2971800"/>
            <a:ext cx="1143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505320"/>
            <a:ext cx="1218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8862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49568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8769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86728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07:42Z</dcterms:created>
  <dc:creator>grahams</dc:creator>
  <dc:description/>
  <dc:language>en-US</dc:language>
  <cp:lastModifiedBy>grahams</cp:lastModifiedBy>
  <dcterms:modified xsi:type="dcterms:W3CDTF">2012-03-22T12:52:58Z</dcterms:modified>
  <cp:revision>2</cp:revision>
  <dc:subject/>
  <dc:title>Slide 1</dc:title>
</cp:coreProperties>
</file>